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5126A9-36D0-4ED4-BE79-0F2824972C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DCF81-8237-4752-ACF9-C5B15DEF5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9C0DD0-7EC0-4389-8612-67C0DB18CF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3BEB88-F9B1-4D61-80F2-373075F481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59511B-EF6B-475A-9333-C7C13E02F4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7C3A15-F156-483C-ABE0-75B0C1C349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6ED18-54BB-4815-92DE-24312662BA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EF6796-B4D2-4292-8C61-392589EBF7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62216B-CAB8-40C0-9091-8C09894E6B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EFA518-ABE6-4B8E-901B-6AE3758E19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2AECD-F0E0-49DF-8C58-02B1B44B5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F457F-E989-4DDF-B4A8-953506B25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EFF96-899F-4CF3-8540-50078B3A2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7D3E7-2D86-4D9A-B571-FAE5E3695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1BB819-6622-4787-A855-CAE5D81E5D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00B42F-A3AF-4BAA-B6EA-AB73077260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EF8CE3-A186-41D6-953F-16E0813D86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DA515-0C47-4633-9619-9FCD5DEB6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4C00B-5A10-414C-AB76-78F0E5160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D92F2-AC55-4BF4-8A1F-2BE789C30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76F14-D842-45E2-B217-0FB1797DC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F9A38-1DEF-4FD0-B8BA-BE290437B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B36BA-9DF4-4163-A7C9-C5F693A66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272F8-951A-49D0-A58C-0606FA2FEC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D10C7-E984-4602-8271-DF9966FA56E8}" type="slidenum">
              <a:rPr b="0" lang="en-US" sz="1200" spc="-1" strike="noStrike">
                <a:solidFill>
                  <a:srgbClr val="ffffff"/>
                </a:solidFill>
                <a:latin typeface="Garamond"/>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C7ED9-8E76-4AAC-B886-A977A9A46D22}" type="slidenum">
              <a:rPr b="0" lang="en-US" sz="1200" spc="-1" strike="noStrike">
                <a:solidFill>
                  <a:srgbClr val="ffffff"/>
                </a:solidFill>
                <a:latin typeface="Garamond"/>
              </a:rPr>
              <a:t>&lt;number&gt;</a:t>
            </a:fld>
            <a:endParaRPr b="0" lang="en-US" sz="1200" spc="-1" strike="noStrike">
              <a:solidFill>
                <a:srgbClr val="000000"/>
              </a:solidFill>
              <a:latin typeface="Arial"/>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flexline2005@terra.com.br" TargetMode="External"/><Relationship Id="rId3" Type="http://schemas.openxmlformats.org/officeDocument/2006/relationships/hyperlink" Target="http://www.flexline.odo.br/" TargetMode="External"/><Relationship Id="rId4" Type="http://schemas.openxmlformats.org/officeDocument/2006/relationships/hyperlink" Target="http://www.odontologia.com.br/"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Resina Acrílica Flexível: Relato de um caso</a:t>
            </a:r>
            <a:endParaRPr b="1" lang="en-US" sz="4000" spc="-1" strike="noStrike">
              <a:solidFill>
                <a:srgbClr val="b9efee"/>
              </a:solidFill>
              <a:latin typeface="Garamond"/>
            </a:endParaRPr>
          </a:p>
        </p:txBody>
      </p:sp>
      <p:sp>
        <p:nvSpPr>
          <p:cNvPr id="115"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fontScale="86000"/>
          </a:bodyPr>
          <a:p>
            <a:pPr marL="294840" indent="-294840">
              <a:spcBef>
                <a:spcPts val="1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Relato de Caso Clínico apresentado ao Curso de Odontologia do Centro Universitário Hermínio Ometto, como parte integrante do Trabalho de Conclusão de Curso, para obtenção do título de Cirurgião Dentista. ORIENTADORA: Profa. Dra. Viviane Maia B. Oliveira</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404280"/>
            <a:ext cx="8229600" cy="6193080"/>
          </a:xfrm>
          <a:prstGeom prst="rect">
            <a:avLst/>
          </a:prstGeom>
          <a:noFill/>
          <a:ln w="0">
            <a:noFill/>
          </a:ln>
        </p:spPr>
        <p:txBody>
          <a:bodyPr lIns="90000" rIns="90000" tIns="46800" bIns="46800" anchor="t">
            <a:normAutofit fontScale="89000"/>
          </a:bodyPr>
          <a:p>
            <a:pPr marL="305280" indent="-3052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ara a moldagem inicial, foi realizado o procedimento preconizado pela COI da UNIARARAS, através de moldeira de estoque perfurada para desdentado e alginato como material moldador e obtenção dos modelos anatômicos em gesso comum. A moldagem funcional também foi realizada de forma convencional, através de moldeira individual, godiva (Kerr®) em bastão para a realização do selado periférico e pasta Zinco-eugenólica (Lizanda®, Godibar®) para a moldagem dos rebordos residuai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11280" y="449280"/>
            <a:ext cx="8229600" cy="6408720"/>
          </a:xfrm>
          <a:prstGeom prst="rect">
            <a:avLst/>
          </a:prstGeom>
          <a:noFill/>
          <a:ln w="0">
            <a:noFill/>
          </a:ln>
        </p:spPr>
        <p:txBody>
          <a:bodyPr lIns="90000" rIns="90000" tIns="46800" bIns="46800" anchor="t">
            <a:normAutofit fontScale="90000"/>
          </a:bodyPr>
          <a:p>
            <a:pPr marL="308520" indent="-308520">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No momento da obtenção do modelo de trabalho, pode-se observar a primeira modificação quando comparados os procedimentos da prótese convencional e da prótese flexível. Para a confecção da prótese total convencional, os modelos foram confeccionados em gesso pedra, material com resistência suficiente para suportar a compressão de 1 tonelada no momento da prensagem da mufla.</a:t>
            </a:r>
            <a:r>
              <a:rPr b="0" lang="en-US" sz="3600" spc="-1" strike="noStrike">
                <a:solidFill>
                  <a:srgbClr val="ffffff"/>
                </a:solidFill>
                <a:latin typeface="Garamond"/>
              </a:rPr>
              <a:t> </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68360" y="593280"/>
            <a:ext cx="8229600" cy="6264360"/>
          </a:xfrm>
          <a:prstGeom prst="rect">
            <a:avLst/>
          </a:prstGeom>
          <a:noFill/>
          <a:ln w="0">
            <a:noFill/>
          </a:ln>
        </p:spPr>
        <p:txBody>
          <a:bodyPr lIns="90000" rIns="90000" tIns="46800" bIns="46800" anchor="t">
            <a:normAutofit/>
          </a:bodyPr>
          <a:p>
            <a:pPr marL="343080" indent="-343080">
              <a:spcBef>
                <a:spcPts val="1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ara a utilização da resina Flexline® , é necessário que os modelos sejam confeccionados em gesso especial, para que o modelo possa resistir à pressão exercida no momento da injeção da resina Flexline®, que é de 4 toneladas.</a:t>
            </a:r>
            <a:endParaRPr b="0" lang="en-US" sz="4000" spc="-1" strike="noStrike">
              <a:solidFill>
                <a:srgbClr val="ffffff"/>
              </a:solidFill>
              <a:latin typeface="Garamond"/>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89000"/>
            <a:ext cx="8229600" cy="6480000"/>
          </a:xfrm>
          <a:prstGeom prst="rect">
            <a:avLst/>
          </a:prstGeom>
          <a:noFill/>
          <a:ln w="0">
            <a:noFill/>
          </a:ln>
        </p:spPr>
        <p:txBody>
          <a:bodyPr lIns="90000" rIns="90000" tIns="46800" bIns="46800" anchor="t">
            <a:normAutofit fontScale="91000"/>
          </a:bodyPr>
          <a:p>
            <a:pPr marL="312120" indent="-312120">
              <a:lnSpc>
                <a:spcPct val="90000"/>
              </a:lnSpc>
              <a:spcBef>
                <a:spcPts val="82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Após a obtenção dos modelos de trabalho, alívio das regiões retentivas e confecção das bases com rolete de cera, foi realizada a tomada do arco facial, montagem do modelo superior em articulador semi-ajustável (ASA), o relacionamento maxilo-mandibular e montagem do modelo inferior em ASA.</a:t>
            </a:r>
            <a:endParaRPr b="0" lang="en-US" sz="3300" spc="-1" strike="noStrike">
              <a:solidFill>
                <a:srgbClr val="ffffff"/>
              </a:solidFill>
              <a:latin typeface="Garamond"/>
            </a:endParaRPr>
          </a:p>
          <a:p>
            <a:pPr marL="312120" indent="-312120">
              <a:lnSpc>
                <a:spcPct val="90000"/>
              </a:lnSpc>
              <a:spcBef>
                <a:spcPts val="82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A seleção dos dentes artificiais quanto à forma e cor obedeceu às características individuais do paciente como formato do rosto, cor da pele, idade, levando em consideração as linhas de referências (média, do sorriso forçado e dos caninos).</a:t>
            </a:r>
            <a:endParaRPr b="0" lang="en-US" sz="33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fontScale="95000"/>
          </a:bodyPr>
          <a:p>
            <a:pPr marL="325800" indent="-3258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pós a montagem dos dentes realizada em laboratório, procedeu-se à prova clínica dos dois pares de prótese, checando a dimensão vertical de oclusão, a estética, a fonética, e contatos inter-oclusais. Após a aprovação estética e funcional, iniciou-se o processo de acrilização das próteses. A prótese convencional seguiu o ciclo de inclusão e polimerização convencional. Foi utilizada uma mufla metálica no 06, e a prótese foi incluída em gesso comum.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260280"/>
            <a:ext cx="8229600" cy="6337440"/>
          </a:xfrm>
          <a:prstGeom prst="rect">
            <a:avLst/>
          </a:prstGeom>
          <a:noFill/>
          <a:ln w="0">
            <a:noFill/>
          </a:ln>
        </p:spPr>
        <p:txBody>
          <a:bodyPr lIns="90000" rIns="90000" tIns="46800" bIns="46800" anchor="t">
            <a:normAutofit fontScale="96000"/>
          </a:bodyPr>
          <a:p>
            <a:pPr marL="329040" indent="-32904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 resina utilizada foi a termopolimerizável cor rosa-médio veiado, marca Clássico®, com tempo de polimerização de 6 horas.</a:t>
            </a:r>
            <a:endParaRPr b="0" lang="en-US" sz="3200" spc="-1" strike="noStrike">
              <a:solidFill>
                <a:srgbClr val="ffffff"/>
              </a:solidFill>
              <a:latin typeface="Garamond"/>
            </a:endParaRPr>
          </a:p>
          <a:p>
            <a:pPr marL="329040" indent="-32904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 prótese confeccionada com a resina Flexline® foi incluída em uma mufla metálica diferenciada para ser adaptada na máquina injetora. A mufla apresenta em sua estrutura um orifício, no qual é adaptada a boca de um cilindro, onde a cápsula de alumínio contendo a resina Flexline® esta sendo fusionada.</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89000"/>
            <a:ext cx="8229600" cy="648000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O modelo de trabalho juntamente a base com os dentes em cera é fixado à mufla com gesso pedra, em seguida são colocado os canais de alimentação de injeção principal e secundário em cera, para então isolar o gesso e vazar o contra-muflo em gesso pedra.</a:t>
            </a:r>
            <a:endParaRPr b="0" lang="en-US" sz="3200" spc="-1" strike="noStrike">
              <a:solidFill>
                <a:srgbClr val="ffffff"/>
              </a:solidFill>
              <a:latin typeface="Garamond"/>
            </a:endParaRPr>
          </a:p>
          <a:p>
            <a:pPr marL="308520" indent="-30852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O deceramento é realizado de forma convencional por banho de água quente, a mufla é novamente aberta com a finalidade de perfurar os dentes artificiais para melhor retenção dos mesmos à resina Flexline®, e de isolar o modelo de trabalho para facilitar a remoção da peça protética após a injeção.</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611280" y="1267920"/>
            <a:ext cx="8229600" cy="61930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 mufla é fechada para a realização da injeção da resina que ocorre da seguinte maneira: coloca-se uma cápsula lubrificada com silicone atóxico no interior do cilindro de fusão a uma temperatura adequada, para que o material seja fundido por completo e, assim ser injetado no interior do molde e dando origem a peça.</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fontScale="96000"/>
          </a:bodyPr>
          <a:p>
            <a:pPr marL="329040" indent="-32904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 mufla em posição é devidamente presa com o orifício direcionado para a cápsula encaixada na boca do cilindro, onde o material está fusionado. Então dispara-se o pistão. O impulso comprime a cápsula com o material, ao encontro com o orifício da mufla, que está ligado ao canal ou aos canais de alimentação que nesta compressão faz com que a cápsula se rompa e o material flua pelos condutos de alimentação atingindo a extensão do molde a ser preenchido.</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Garamond"/>
              </a:rPr>
              <a:t>Com pressão correta, dependendo da extensão a ser preenchida, e com um recalque em tonelagens pelo tempo necessário ficará garantida a adaptação fiel da área basal a ser moldada.</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Garamond"/>
              </a:rPr>
              <a:t>Realizado este processo, aciona-se outro dispositivo para o recuo do pistão permitindo a remoção da mufla, já preenchido com resina flexível Flexline com base acrílica de poli-metil- metacrilato.</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768320"/>
            <a:ext cx="7772400" cy="2308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9efee"/>
                </a:solidFill>
                <a:latin typeface="Garamond"/>
              </a:rPr>
              <a:t>CENTRO UNIVERSITÁRIO HERMÍNIO OMETTO</a:t>
            </a:r>
            <a:endParaRPr b="1" lang="en-US" sz="4800" spc="-1" strike="noStrike">
              <a:solidFill>
                <a:srgbClr val="b9efee"/>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68360" y="907560"/>
            <a:ext cx="8229600" cy="626436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Garamond"/>
              </a:rPr>
              <a:t>Cessado a termoinjeção do material, aguarda-se o período de resfriamento e relaxamento da cadeia linear molecular da resina para então realizar a demuflagem. </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Garamond"/>
              </a:rPr>
              <a:t>Com os pares de próteses totais confeccionados e os procedimentos laboratoriais concluídos, segue-se à instalação das próteses no paciente.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fontScale="94000"/>
          </a:bodyPr>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1" lang="en-US" sz="2800" spc="-1" strike="noStrike">
                <a:solidFill>
                  <a:srgbClr val="ffffff"/>
                </a:solidFill>
                <a:latin typeface="Garamond"/>
              </a:rPr>
              <a:t>Numa mesma sessão as duas próteses foram desinfetadas com digluconato de clorexidine 0,2% e posicionadas nos rebordos remanescentes do paciente. Um leve ajuste das regiões traumáticas também foi realizado e o paciente foi remarcado para 7 dias após a instalação do primeiro par de próteses,confeccionadas em resina acrílica convencional da marca CLASSICO, para novos ajustes que se fizessem necessárias e para relatar sua opinião sobre o conforto e estética das próteses.</a:t>
            </a:r>
            <a:endParaRPr b="0" lang="en-US" sz="2800" spc="-1" strike="noStrike">
              <a:solidFill>
                <a:srgbClr val="ffffff"/>
              </a:solidFill>
              <a:latin typeface="Garamond"/>
            </a:endParaRPr>
          </a:p>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pós 7 dias o paciente retornou e posicionou que a prótese encontrava-se desadaptada e que machucava muito.</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395280" y="1125360"/>
            <a:ext cx="8229600" cy="633744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Garamond"/>
              </a:rPr>
              <a:t>Foi proposto um segundo par de próteses ao paciente ,confeccionados com uma nova resina de base aclílica com ausência de monômero ,denominada Flexline®. Feitos os ajustes iniciais, pediu-se que o paciente utilizasse este segundo par por sete dias, e retornasse para sua avaliação e opinião deste segundo par de prótes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260280"/>
            <a:ext cx="8229600" cy="633744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Garamond"/>
              </a:rPr>
              <a:t>Após sete dias, o paciente retornou, nos posicionando que estava super- satisfeito com as próteses, pois relatou que estas se encontravam bem adaptadas, retidas e que não machucavam como as outras, e que a comida não aderia a prótese, como nas anteriores.</a:t>
            </a:r>
            <a:endParaRPr b="0" lang="en-US" sz="3200" spc="-1" strike="noStrike">
              <a:solidFill>
                <a:srgbClr val="ffffff"/>
              </a:solidFill>
              <a:latin typeface="Garamond"/>
            </a:endParaRPr>
          </a:p>
          <a:p>
            <a:pPr marL="318960" indent="-31896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Garamond"/>
              </a:rPr>
              <a:t>A função de uma prótese total depende de diversos fatores, mas, sem dúvida, a adaptação íntima da parte interna de sua base sobre a fibromucosa do rebordo remanescente pode aumentar sua retentividade e eficiência e proporcionar conforto ao pacien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260280"/>
            <a:ext cx="8229600" cy="633744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A resina acrílica é, até o momento, o material mais adequado para a confecção de bases de próteses. Sua cor e as propriedades óticas são estáveis em condições normais; as propriedades físico-químicas são aceitáveis e apresentam relativa facilidade de manipulação . Diversas são as técnicas para a polimerização de resinas acrílicas para a base de dentaduras (polimetilmetacrilato). Dentre estas podemos citar: a polimerização por banho de água quente, a polimerização química, por luz visível, por energia de microondas e recentemente a da resina flexível com base acrílica termo-injetada sob a compressão de 4 toneladas Flexlin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11280" y="593280"/>
            <a:ext cx="8229600" cy="626436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Garamond"/>
              </a:rPr>
              <a:t>O método mais comumente utilizado atualmente para a confecção de bases de resina para próteses totais é indiscutivelmente a de banho de água quente seguido pela polimerização por energia de microondas, sendo este último relatado primeiramente em 1968 e vantajoso pelo curto tempo de polimerização necessário, segundo SHIBAYAMA et al. (2002).</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68360" y="189000"/>
            <a:ext cx="8229600" cy="6408720"/>
          </a:xfrm>
          <a:prstGeom prst="rect">
            <a:avLst/>
          </a:prstGeom>
          <a:noFill/>
          <a:ln w="0">
            <a:noFill/>
          </a:ln>
        </p:spPr>
        <p:txBody>
          <a:bodyPr lIns="90000" rIns="90000" tIns="46800" bIns="46800" anchor="t">
            <a:normAutofit fontScale="91000"/>
          </a:bodyPr>
          <a:p>
            <a:pPr marL="312120" indent="-31212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ITTERBECK (2003) destaca também a leveza da prótese total confeccionada com resina Flexline®. Foi comparado o peso de duas próteses totais superiores montadas com os mesmos dentes, uma confeccionada com resina Flexline® pesando 20 gramas e uma segunda confeccionada com resina acrílica convencional pesando 32 gramas o que denota o maior conforto fornecido pela prótese confeccionada com resina Flexline®. Além da leveza, a transparência também é um fator positivo da resina Flexline®, uma vez que, a transmissão de luz que é na ordem de 92%, supera os 52% de transmissão de luz da resina acrílica convencional, ou seja, a resina Flexline® reproduz mais fielmente a cor do tecido gengival do pacient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1267920"/>
            <a:ext cx="8229600" cy="5256360"/>
          </a:xfrm>
          <a:prstGeom prst="rect">
            <a:avLst/>
          </a:prstGeom>
          <a:noFill/>
          <a:ln w="0">
            <a:noFill/>
          </a:ln>
        </p:spPr>
        <p:txBody>
          <a:bodyPr lIns="90000" rIns="90000" tIns="46800" bIns="46800" anchor="t">
            <a:normAutofit fontScale="84000"/>
          </a:bodyPr>
          <a:p>
            <a:pPr marL="288000" indent="-2880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endo em vista o caso apresentado e os resultados obtidos, parece lícito concluir que:</a:t>
            </a:r>
            <a:endParaRPr b="0" lang="en-US" sz="3200" spc="-1" strike="noStrike">
              <a:solidFill>
                <a:srgbClr val="ffffff"/>
              </a:solidFill>
              <a:latin typeface="Garamond"/>
            </a:endParaRPr>
          </a:p>
          <a:p>
            <a:pPr marL="288000" indent="-2880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pós a utilização das próteses por períodos iguais de 7 dias, a prótese confeccionada com Flexline® forneceu maior conforto ao paciente. </a:t>
            </a:r>
            <a:endParaRPr b="0" lang="en-US" sz="3200" spc="-1" strike="noStrike">
              <a:solidFill>
                <a:srgbClr val="ffffff"/>
              </a:solidFill>
              <a:latin typeface="Garamond"/>
            </a:endParaRPr>
          </a:p>
          <a:p>
            <a:pPr marL="288000" indent="-2880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teticamente não houve diferença entre ambas. </a:t>
            </a:r>
            <a:endParaRPr b="0" lang="en-US" sz="3200" spc="-1" strike="noStrike">
              <a:solidFill>
                <a:srgbClr val="ffffff"/>
              </a:solidFill>
              <a:latin typeface="Garamond"/>
            </a:endParaRPr>
          </a:p>
          <a:p>
            <a:pPr marL="288000" indent="-2880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 propriedades, de acordo com a literatura se equivalem, salvo a inexistência de monômero residual, de porosidades e do baixo valor de sorção de água da resina Flexline®. </a:t>
            </a:r>
            <a:endParaRPr b="0" lang="en-US" sz="3200" spc="-1" strike="noStrike">
              <a:solidFill>
                <a:srgbClr val="ffffff"/>
              </a:solidFill>
              <a:latin typeface="Garamond"/>
            </a:endParaRPr>
          </a:p>
          <a:p>
            <a:pPr marL="288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ONCLUSÕES</a:t>
            </a:r>
            <a:endParaRPr b="1" lang="en-US" sz="4400" spc="-1" strike="noStrike">
              <a:solidFill>
                <a:srgbClr val="b9efee"/>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68360" y="1557000"/>
            <a:ext cx="8229600" cy="5040360"/>
          </a:xfrm>
          <a:prstGeom prst="rect">
            <a:avLst/>
          </a:prstGeom>
          <a:noFill/>
          <a:ln w="0">
            <a:noFill/>
          </a:ln>
        </p:spPr>
        <p:txBody>
          <a:bodyPr lIns="90000" rIns="90000" tIns="46800" bIns="46800" anchor="t">
            <a:normAutofit fontScale="96000"/>
          </a:bodyPr>
          <a:p>
            <a:pPr marL="329040" indent="-32904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UN, K. O. et al. </a:t>
            </a:r>
            <a:r>
              <a:rPr b="0" lang="pt-BR" sz="3200" spc="-1" strike="noStrike">
                <a:solidFill>
                  <a:srgbClr val="ffffff"/>
                </a:solidFill>
                <a:latin typeface="Garamond"/>
              </a:rPr>
              <a:t>Alteração dimensional linear de resinas para bases de próteses polimerizadas com microondas.</a:t>
            </a:r>
            <a:r>
              <a:rPr b="1" lang="pt-BR" sz="3200" spc="-1" strike="noStrike">
                <a:solidFill>
                  <a:srgbClr val="ffffff"/>
                </a:solidFill>
                <a:latin typeface="Garamond"/>
              </a:rPr>
              <a:t> Pesqui Odontol Bras</a:t>
            </a:r>
            <a:r>
              <a:rPr b="0" lang="pt-BR" sz="3200" spc="-1" strike="noStrike">
                <a:solidFill>
                  <a:srgbClr val="ffffff"/>
                </a:solidFill>
                <a:latin typeface="Garamond"/>
              </a:rPr>
              <a:t>, São Paulo, v. 14, n. 3, p. 278-282, jul./set. 2000.</a:t>
            </a:r>
            <a:endParaRPr b="0" lang="en-US" sz="3200" spc="-1" strike="noStrike">
              <a:solidFill>
                <a:srgbClr val="ffffff"/>
              </a:solidFill>
              <a:latin typeface="Garamond"/>
            </a:endParaRPr>
          </a:p>
          <a:p>
            <a:pPr marL="329040" indent="-32904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CONSANI, R. L. X. et al. </a:t>
            </a:r>
            <a:r>
              <a:rPr b="0" lang="en-US" sz="3200" spc="-1" strike="noStrike">
                <a:solidFill>
                  <a:srgbClr val="ffffff"/>
                </a:solidFill>
                <a:latin typeface="Garamond"/>
              </a:rPr>
              <a:t>Effect of commercial acrylic resins on dimensional accuracy of the maxillary denture base. </a:t>
            </a:r>
            <a:r>
              <a:rPr b="1" lang="pt-BR" sz="3200" spc="-1" strike="noStrike">
                <a:solidFill>
                  <a:srgbClr val="ffffff"/>
                </a:solidFill>
                <a:latin typeface="Garamond"/>
              </a:rPr>
              <a:t>Braz Dent</a:t>
            </a:r>
            <a:r>
              <a:rPr b="0" lang="pt-BR" sz="3200" spc="-1" strike="noStrike">
                <a:solidFill>
                  <a:srgbClr val="ffffff"/>
                </a:solidFill>
                <a:latin typeface="Garamond"/>
              </a:rPr>
              <a:t> J, Piracicaba, v. 13, n. 1, p. 57-60, , 2002. </a:t>
            </a:r>
            <a:endParaRPr b="0" lang="en-US" sz="3200" spc="-1" strike="noStrike">
              <a:solidFill>
                <a:srgbClr val="ffffff"/>
              </a:solidFill>
              <a:latin typeface="Garamond"/>
            </a:endParaRPr>
          </a:p>
        </p:txBody>
      </p:sp>
      <p:sp>
        <p:nvSpPr>
          <p:cNvPr id="14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REFERÊNCIAS BIBLIOGRÁFICAS:</a:t>
            </a:r>
            <a:endParaRPr b="1" lang="en-US" sz="4000" spc="-1" strike="noStrike">
              <a:solidFill>
                <a:srgbClr val="b9efee"/>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189000"/>
            <a:ext cx="8229600" cy="6408720"/>
          </a:xfrm>
          <a:prstGeom prst="rect">
            <a:avLst/>
          </a:prstGeom>
          <a:noFill/>
          <a:ln w="0">
            <a:noFill/>
          </a:ln>
        </p:spPr>
        <p:txBody>
          <a:bodyPr lIns="90000" rIns="90000" tIns="46800" bIns="46800" anchor="t">
            <a:normAutofit fontScale="90000"/>
          </a:bodyPr>
          <a:p>
            <a:pPr marL="308520" indent="-30852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CURY, A.A.D.B.; RODRIGUES JÚNIOR, A.L.; PANZERI, H. Resinas acrílicas dentais polimerizadas por energia de microondas, método convencional de banho de água e quimicamente ativada: propriedades físicas. </a:t>
            </a:r>
            <a:r>
              <a:rPr b="1" lang="pt-BR" sz="2800" spc="-1" strike="noStrike">
                <a:solidFill>
                  <a:srgbClr val="ffffff"/>
                </a:solidFill>
                <a:latin typeface="Garamond"/>
              </a:rPr>
              <a:t>Rev Odontol Univ São Paulo</a:t>
            </a:r>
            <a:r>
              <a:rPr b="0" lang="pt-BR" sz="2800" spc="-1" strike="noStrike">
                <a:solidFill>
                  <a:srgbClr val="ffffff"/>
                </a:solidFill>
                <a:latin typeface="Garamond"/>
              </a:rPr>
              <a:t>, São Paulo, v. 8, n. 4, p. 243-249, out./dez. 1994. </a:t>
            </a:r>
            <a:endParaRPr b="0" lang="en-US" sz="2800" spc="-1" strike="noStrike">
              <a:solidFill>
                <a:srgbClr val="ffffff"/>
              </a:solidFill>
              <a:latin typeface="Garamond"/>
            </a:endParaRPr>
          </a:p>
          <a:p>
            <a:pPr marL="308520" indent="-30852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GENNARI FILHO, H. et al. Avaliação comparativa entre três métodos de inclusão de próteses totais polimerizadas pela energia de microondas. </a:t>
            </a:r>
            <a:r>
              <a:rPr b="1" lang="pt-BR" sz="2800" spc="-1" strike="noStrike">
                <a:solidFill>
                  <a:srgbClr val="ffffff"/>
                </a:solidFill>
                <a:latin typeface="Garamond"/>
              </a:rPr>
              <a:t>Rev Fac Odontol Araçatuba</a:t>
            </a:r>
            <a:r>
              <a:rPr b="0" lang="pt-BR" sz="2800" spc="-1" strike="noStrike">
                <a:solidFill>
                  <a:srgbClr val="ffffff"/>
                </a:solidFill>
                <a:latin typeface="Garamond"/>
              </a:rPr>
              <a:t>, Araçatuba, v. 24, n. 2, p. 28-34, ago./set. 2003. </a:t>
            </a:r>
            <a:endParaRPr b="0" lang="en-US" sz="2800" spc="-1" strike="noStrike">
              <a:solidFill>
                <a:srgbClr val="ffffff"/>
              </a:solidFill>
              <a:latin typeface="Garamond"/>
            </a:endParaRPr>
          </a:p>
          <a:p>
            <a:pPr marL="308520" indent="-30852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EKAWA, M.Y. et al. </a:t>
            </a:r>
            <a:r>
              <a:rPr b="0" lang="pt-BR" sz="2800" spc="-1" strike="noStrike">
                <a:solidFill>
                  <a:srgbClr val="ffffff"/>
                </a:solidFill>
                <a:latin typeface="Garamond"/>
              </a:rPr>
              <a:t>Passo a passo da arte de reabilitar com prótese total. </a:t>
            </a:r>
            <a:r>
              <a:rPr b="1" lang="pt-BR" sz="2800" spc="-1" strike="noStrike">
                <a:solidFill>
                  <a:srgbClr val="ffffff"/>
                </a:solidFill>
                <a:latin typeface="Garamond"/>
              </a:rPr>
              <a:t>Rev Assoc Paul Cir Dent</a:t>
            </a:r>
            <a:r>
              <a:rPr b="0" lang="pt-BR" sz="2800" spc="-1" strike="noStrike">
                <a:solidFill>
                  <a:srgbClr val="ffffff"/>
                </a:solidFill>
                <a:latin typeface="Garamond"/>
              </a:rPr>
              <a:t>, São José dos Campos, v. 59. n. 2, p.127-129,. 2005.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FOLHA DE APROVAÇÃO</a:t>
            </a:r>
            <a:endParaRPr b="1" lang="en-US" sz="4400" spc="-1" strike="noStrike">
              <a:solidFill>
                <a:srgbClr val="b9efee"/>
              </a:solidFill>
              <a:latin typeface="Garamond"/>
            </a:endParaRPr>
          </a:p>
        </p:txBody>
      </p:sp>
      <p:sp>
        <p:nvSpPr>
          <p:cNvPr id="118"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fontScale="89000"/>
          </a:bodyPr>
          <a:p>
            <a:pPr marL="305280" indent="-305280">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 monografia intitulada: “Resina acrílica flexível: relato de um caso”, apresentada a UNIARARAS - Centro Universitário Hermínio Ometto, para obtenção da conclusão de curso em Odontologia, área de concentração em prótese dental em novembro de 2005, à Comissão Examinadora abaixo nominada, foi aprovada após liberação pelo orientador. </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68360" y="593280"/>
            <a:ext cx="8229600" cy="62643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Garamond"/>
              </a:rPr>
              <a:t>NETTO, J. M.; MUENCH, A.; MIRANDA JUNIOR, W. G. Influência dos tipos de polimerização na resistência da resina para base de prótese total. RPG Rev Pós Grad, São Paulo, v. 6, n. 3, p. 245-248, jul./set. 1999.</a:t>
            </a:r>
            <a:endParaRPr b="0" lang="en-US" sz="2400" spc="-1" strike="noStrike">
              <a:solidFill>
                <a:srgbClr val="ffffff"/>
              </a:solidFill>
              <a:latin typeface="Garamond"/>
            </a:endParaRPr>
          </a:p>
          <a:p>
            <a:pPr marL="339480" indent="-3394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LAI, Y. et al. In vitro color stability, stainresistance, and water sorption of four removable gingival flange materials. J Prosthet Dent, Taiwan, v. 90, n. 3, p. 293-300, 2003. </a:t>
            </a:r>
            <a:endParaRPr b="0" lang="en-US" sz="2400" spc="-1" strike="noStrike">
              <a:solidFill>
                <a:srgbClr val="ffffff"/>
              </a:solidFill>
              <a:latin typeface="Garamond"/>
            </a:endParaRPr>
          </a:p>
          <a:p>
            <a:pPr marL="339480" indent="-3394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Garamond"/>
              </a:rPr>
              <a:t>RITTERBECK, R.; RITERBECK, R. e-mail </a:t>
            </a:r>
            <a:r>
              <a:rPr b="0" lang="pt-BR" sz="2400" spc="-1" strike="noStrike" u="sng">
                <a:solidFill>
                  <a:srgbClr val="00ff99"/>
                </a:solidFill>
                <a:uFillTx/>
                <a:latin typeface="Garamond"/>
                <a:hlinkClick r:id="rId2"/>
              </a:rPr>
              <a:t>flexline2005@terra.com.br</a:t>
            </a:r>
            <a:r>
              <a:rPr b="1" lang="pt-BR" sz="2400" spc="-1" strike="noStrike">
                <a:solidFill>
                  <a:srgbClr val="ffffff"/>
                </a:solidFill>
                <a:latin typeface="Garamond"/>
              </a:rPr>
              <a:t> site </a:t>
            </a:r>
            <a:r>
              <a:rPr b="0" lang="pt-BR" sz="2400" spc="-1" strike="noStrike" u="sng">
                <a:solidFill>
                  <a:srgbClr val="00ff99"/>
                </a:solidFill>
                <a:uFillTx/>
                <a:latin typeface="Garamond"/>
                <a:hlinkClick r:id="rId3"/>
              </a:rPr>
              <a:t>www.flexline.odo.br</a:t>
            </a:r>
            <a:r>
              <a:rPr b="1" lang="pt-BR" sz="2400" spc="-1" strike="noStrike">
                <a:solidFill>
                  <a:srgbClr val="ffffff"/>
                </a:solidFill>
                <a:latin typeface="Garamond"/>
              </a:rPr>
              <a:t>Próteses totais e parciais removíveis com flexibilidade. Artigo científico publicado no site </a:t>
            </a:r>
            <a:r>
              <a:rPr b="0" lang="pt-BR" sz="2400" spc="-1" strike="noStrike" u="sng">
                <a:solidFill>
                  <a:srgbClr val="00ff99"/>
                </a:solidFill>
                <a:uFillTx/>
                <a:latin typeface="Garamond"/>
                <a:hlinkClick r:id="rId4"/>
              </a:rPr>
              <a:t>www.odontologia.com.br</a:t>
            </a:r>
            <a:r>
              <a:rPr b="1" lang="pt-BR" sz="2400" spc="-1" strike="noStrike">
                <a:solidFill>
                  <a:srgbClr val="ffffff"/>
                </a:solidFill>
                <a:latin typeface="Garamond"/>
              </a:rPr>
              <a:t>; Analisado e aprovado pelo Instituto Adolph Lutz; Homologado pela Anvisa; Técnica registrada por Richard Ritterbeck pelo número 296.957 junto a biblioteca nacional do livro; FDA 21 – CFR nº 177.1010 / MSDS – CA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89000"/>
            <a:ext cx="8229600" cy="64087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reabilitação de pacientes total ou parcialmente endentados conta com uma série crescente de opções de tratamento, variando principalmente as características dos materiais das próteses. O objetivo deste trabalho foi mostrar uma opção de reabilitação protética em casos de pacientes desdentados totais inferiores e superiores, em que a reabilitação com próteses totais convencionais poderia comprometer a satisfação do paciente, uma vez que o desconforto causado pelas mesmas logo após a instalação é uma evidência. No caso clínico descrito, o paciente apresentava um rebordo superior com muitas áreas de retenção óssea, o que poderia favorecer algumas regiões de desadaptação e outras de compressão.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11280" y="0"/>
            <a:ext cx="8229600" cy="6337440"/>
          </a:xfrm>
          <a:prstGeom prst="rect">
            <a:avLst/>
          </a:prstGeom>
          <a:noFill/>
          <a:ln w="0">
            <a:noFill/>
          </a:ln>
        </p:spPr>
        <p:txBody>
          <a:bodyPr lIns="90000" rIns="90000" tIns="46800" bIns="46800" anchor="t">
            <a:normAutofit fontScale="84000"/>
          </a:bodyPr>
          <a:p>
            <a:pPr marL="288000" indent="-288000">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ff"/>
                </a:solidFill>
                <a:latin typeface="Garamond"/>
              </a:rPr>
              <a:t>Desta forma, a reabilitação do paciente foi feita através de uma nova resina disponível no mercado que é termoinjetada sob pressão de 4 toneladas, diminuindo as áreas de desadaptação. Uma característica importante desta resina é a flexibilidade, permitindo a inserção da prótese com maior conforto para o paciente. Para efeito de comparação, um par de próteses convencionais também foi confeccionada para este paciente, de forma que o mesmo pudesse opinar sobre a melhor prótese. </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95280" y="260280"/>
            <a:ext cx="8229600" cy="6337440"/>
          </a:xfrm>
          <a:prstGeom prst="rect">
            <a:avLst/>
          </a:prstGeom>
          <a:noFill/>
          <a:ln w="0">
            <a:noFill/>
          </a:ln>
        </p:spPr>
        <p:txBody>
          <a:bodyPr lIns="90000" rIns="90000" tIns="46800" bIns="46800" anchor="t">
            <a:normAutofit fontScale="85000"/>
          </a:bodyPr>
          <a:p>
            <a:pPr marL="291600" indent="-291600">
              <a:spcBef>
                <a:spcPts val="1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Após a utilização de ambas as próteses por períodos iguais de 7 dias, pode-se concluir que esteticamente não existem diferenças entre ambas, entretanto o paciente relatou maior conforto na utilização da prótese confeccionada com Flexline® ausente de monômero .</a:t>
            </a:r>
            <a:endParaRPr b="0" lang="en-US" sz="4000" spc="-1" strike="noStrike">
              <a:solidFill>
                <a:srgbClr val="ffffff"/>
              </a:solidFill>
              <a:latin typeface="Garamond"/>
            </a:endParaRPr>
          </a:p>
          <a:p>
            <a:pPr marL="291600" indent="-291600">
              <a:spcBef>
                <a:spcPts val="1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ALAVRAS – CHAVE</a:t>
            </a:r>
            <a:r>
              <a:rPr b="0" lang="en-US" sz="3200" spc="-1" strike="noStrike">
                <a:solidFill>
                  <a:srgbClr val="ffffff"/>
                </a:solidFill>
                <a:latin typeface="Garamond"/>
              </a:rPr>
              <a:t>: </a:t>
            </a:r>
            <a:r>
              <a:rPr b="0" lang="en-US" sz="4000" spc="-1" strike="noStrike">
                <a:solidFill>
                  <a:srgbClr val="ffffff"/>
                </a:solidFill>
                <a:latin typeface="Garamond"/>
              </a:rPr>
              <a:t>resina acrílica flexível Flexline; resina acrílica convencional Clássico; prótese total</a:t>
            </a:r>
            <a:endParaRPr b="0" lang="en-US" sz="4000" spc="-1" strike="noStrike">
              <a:solidFill>
                <a:srgbClr val="ffffff"/>
              </a:solidFill>
              <a:latin typeface="Garamond"/>
            </a:endParaRPr>
          </a:p>
          <a:p>
            <a:pPr marL="2916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RELATO DO CASO CLÍNICO</a:t>
            </a: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fontScale="92000"/>
          </a:bodyPr>
          <a:p>
            <a:pPr marL="315360" indent="-315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 paciente D.G., gênero masculino, 65 anos, compareceu à Faculdade de Odontologia de Araras para a avaliação e confecção de prótese total dupla. Apresentava no arco superior e inferior ausência de todos os dentes e uma prótese total confeccionada em resina acrílica convencional apenas no arco superior, da qual relatou o desejo de “se ver livre, porque ela machuca”, pois a mesma se encontrava com um desgaste muito acentuado.</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68360" y="260280"/>
            <a:ext cx="8229600" cy="6408720"/>
          </a:xfrm>
          <a:prstGeom prst="rect">
            <a:avLst/>
          </a:prstGeom>
          <a:noFill/>
          <a:ln w="0">
            <a:noFill/>
          </a:ln>
        </p:spPr>
        <p:txBody>
          <a:bodyPr lIns="90000" rIns="90000" tIns="46800" bIns="46800" anchor="t">
            <a:normAutofit fontScale="90000"/>
          </a:bodyPr>
          <a:p>
            <a:pPr marL="308520" indent="-308520">
              <a:lnSpc>
                <a:spcPct val="90000"/>
              </a:lnSpc>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Garamond"/>
              </a:rPr>
              <a:t>Foram realizados os exames físicos, intra e extra-bucal, e radiográfico para detecção de eventuais raízes residuais, possíveis patologias bucais ou dentes inclusos, além da coleta de informações sobre a saúde geral e bucal do paciente. Dados sobre a história odontológica pregressa como a razão da perda dos dentes, número de próteses já realizadas também foram obtidos, além da visualização da harmonia facial. Ao exame radiográfico não foi observada nenhuma anormalidade. </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189000"/>
            <a:ext cx="8229600" cy="6408720"/>
          </a:xfrm>
          <a:prstGeom prst="rect">
            <a:avLst/>
          </a:prstGeom>
          <a:noFill/>
          <a:ln w="0">
            <a:noFill/>
          </a:ln>
        </p:spPr>
        <p:txBody>
          <a:bodyPr lIns="90000" rIns="90000" tIns="46800" bIns="46800" anchor="t">
            <a:normAutofit fontScale="94000"/>
          </a:bodyPr>
          <a:p>
            <a:pPr marL="322200" indent="-322200">
              <a:spcBef>
                <a:spcPts val="1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ff"/>
                </a:solidFill>
                <a:latin typeface="Garamond"/>
              </a:rPr>
              <a:t>Após a moldagem inicial e a confirmação da presença de rebordos extremamente retentivos, foi proposta ao paciente a confecção de uma prótese total dupla de resina flexível com base acrílica termo-injetada (Flexline®), com intuito de reduzir o problema relatado inicialmente. </a:t>
            </a:r>
            <a:endParaRPr b="0" lang="en-US" sz="4000" spc="-1" strike="noStrike">
              <a:solidFill>
                <a:srgbClr val="ffffff"/>
              </a:solidFill>
              <a:latin typeface="Garamond"/>
            </a:endParaRPr>
          </a:p>
          <a:p>
            <a:pPr marL="3222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7T15:32:21Z</dcterms:created>
  <dc:creator>Cliente</dc:creator>
  <dc:description/>
  <dc:language>en-US</dc:language>
  <cp:lastModifiedBy>Cliente</cp:lastModifiedBy>
  <dcterms:modified xsi:type="dcterms:W3CDTF">2009-07-07T16:02:30Z</dcterms:modified>
  <cp:revision>2</cp:revision>
  <dc:subject/>
  <dc:title>Resina Acrílica Flexível: Relato de um caso</dc:title>
</cp:coreProperties>
</file>